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DA2-86D9-4101-B88B-5F6496D4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84D-187B-41F1-AB00-68AFA9B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52-6BD1-4228-B79A-772955C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64C-44AD-471A-8699-FD4D6CAD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1BF1-B240-44FA-861E-EEBF1E0B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B87-5005-4CEB-8AE0-DA91701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554-53F8-427F-9F78-454E3605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7F91-1D67-4CE0-9BE0-2D859475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2D1D-1CD0-4090-B9DA-3DC4F169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8EC-FF87-492D-AAA3-8C328090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D77-4C0E-493A-B7AE-A0FAE6D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72D-8834-4ED4-BB9A-FD0D111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D796-9DD4-4D63-A669-6D725A9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4F6A-38C7-45E3-B9D9-F9CEBBF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9E1-D070-43B3-BBA1-819BCD30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9CCF-73F8-4EF6-94FE-49483310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A73-22CE-49CA-A9AE-41AA0DA2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960-8B42-44DC-B7C8-4F8E2A1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785-3711-4B26-9EAB-6ACD595D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E2F-44DE-4899-A435-13318E1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ADE-256F-48C6-8EA7-86F362F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875-CA19-4C3E-A97B-6B73ECB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801-D335-4DF8-ABA1-7E5CF48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BE-AFC8-4423-B898-FDC67CC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671E-89CD-4027-8766-8B312A4762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332-BFEF-4CDC-B79D-AC77A521DA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ER w/origin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¿De dónde eres tú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= to b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is used to ask and state where someone is from (their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origi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 also has 5 forms that are changed with each person to discuss where each person is fro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2514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ú ____ de Columbi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2514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 ____ de México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las ____  de Argentin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amigo ____ de Esp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ñ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43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Nosotros ______ de Costa Ric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25146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abuela ______ de Hondura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51460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Ustedes ____ de Nueva 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51460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os estudiantes____ dePanam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25146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ú no  ____ de Venezuel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256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514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s amigos no ____ de Nueva 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371600"/>
            <a:ext cx="74674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yo          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sotr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lla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d.       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The verb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5238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4382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0292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1523880"/>
            <a:ext cx="1828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1055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2280"/>
            <a:ext cx="8839080" cy="670572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514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arlos y yo ______ de Republica Dominican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95280" y="2514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upe ____ de Ecuador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Francisco ____ de Chi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2514600"/>
            <a:ext cx="92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guel y Enrique____ de Teja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reate sentences in Spanish stating where each person is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manda / ser / Panamá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Los chicos / ser / Puerto 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/ ser / Los EEU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a y yo / ser / Urugu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Sr. y Sra Veracruz / ser / Cub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u / ser / El Salvad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.  Translate into Spanish the correct forms of SER with the pronou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boys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 am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forma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al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ita is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y dad is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u informal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iguel and I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ristina and Teresa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10.  Enrique and Marta are fr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Form a question and an answer to ask and state where each person is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tu) / (Peru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Gregorio) / (Espan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Ud.) / Guatema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las chicas) / (Venezuel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Uds.) / (Los Estados Unido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Isabela y David) / (Republica Dominican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Yo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y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I am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nosotros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mo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we 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Bookman Old Style"/>
              </a:rPr>
              <a:t>ere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you are (informal)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  <a:ea typeface="Times New Roman"/>
              </a:rPr>
              <a:t>é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l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  = he i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o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they are (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a   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e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she is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ellas  </a:t>
            </a:r>
            <a:r>
              <a:rPr b="1" i="1" lang="en-US" sz="3200" spc="-1" strike="noStrike">
                <a:solidFill>
                  <a:srgbClr val="eaeaea"/>
                </a:solidFill>
                <a:latin typeface="Bookman Old Style"/>
              </a:rPr>
              <a:t>son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= they are 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(f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Ud.   you </a:t>
            </a:r>
            <a:r>
              <a:rPr b="0" lang="en-US" sz="1800" spc="-1" strike="noStrike">
                <a:solidFill>
                  <a:srgbClr val="eaeaea"/>
                </a:solidFill>
                <a:latin typeface="Bookman Old Style"/>
              </a:rPr>
              <a:t>(formal)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 are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Uds.    you all 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.  Translate into English the correct forms of SER with the pronou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Nosotros som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d.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ds.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la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lla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i familia y yo som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Juan y Miguel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u er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-7639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na 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76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es on expressing orig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order to ask where someone is from we use the question word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= From whe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x: ¿De dónde eres tú?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o state where you or someone is from we use this forma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ex: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form of ser + de + (country of) orig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Nueva Y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sking/stating where people are from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res tú?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Nueva Yor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s Juan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Juan es de los Estado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Unidos.  (los EEUU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es Ud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o soy de Mahopa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son Ana y Marta?  Ellas son de Cub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De dónde son Uds?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Nosotros somos de Peru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2514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 papá ____ de Puerto Rico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514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Yo ____ de los Estados Unidos (United States)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lla ____ de Guatemala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6:58:58Z</dcterms:created>
  <dc:creator>Paul Widergren</dc:creator>
  <dc:description/>
  <dc:language>en-US</dc:language>
  <cp:lastModifiedBy>Daly Dominguez</cp:lastModifiedBy>
  <dcterms:modified xsi:type="dcterms:W3CDTF">2010-09-13T06:28:25Z</dcterms:modified>
  <cp:revision>13</cp:revision>
  <dc:subject/>
  <dc:title>No Slide Title</dc:title>
</cp:coreProperties>
</file>